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4F4-4627-4E36-A29D-467C284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BE9-E298-408D-AFF9-D4373E3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9E5-F540-4E50-8769-9F71111D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14D-BF17-427B-B156-63D8FF57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091-8FFD-41E5-8A9A-48EFD863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806-1BE4-4C1D-AD87-275AA50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A18-4880-4A31-A890-D355690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19E-D321-4381-8F53-C6B85F3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F31-1818-4176-AD98-2C274F11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66A-76F7-4D20-B86F-9BEA626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39C-2A03-4F95-BAF1-6D13671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DAC-8AB2-4D25-9CAC-78D98B4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DF8E-63CC-418A-B999-BD367FA5807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520" y="37576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MI A SZOCIOLÓGI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4567320"/>
            <a:ext cx="8642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Book Antiqua"/>
              </a:rPr>
              <a:t>A SZOCIOLÓGIA A TÁRSADALOM TÖRVÉNYSZERŰSÉGEIT KUTATÓ TUD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200" y="25671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144612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ook Antiqua"/>
              </a:rPr>
              <a:t>Szociológia – társadalomtud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incs uralkodó paradigma – több elméleti rendszer él egymással párhuzam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6280" y="2455920"/>
            <a:ext cx="8642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Book Antiqua"/>
              </a:rPr>
              <a:t>Mikroszociológia </a:t>
            </a:r>
            <a:r>
              <a:rPr b="1" lang="hu-HU" sz="2400" spc="-1" strike="noStrike">
                <a:solidFill>
                  <a:srgbClr val="cc3300"/>
                </a:solidFill>
                <a:latin typeface="Symbol"/>
                <a:ea typeface="Symbol"/>
              </a:rPr>
              <a:t></a:t>
            </a:r>
            <a:r>
              <a:rPr b="1" lang="hu-HU" sz="2400" spc="-1" strike="noStrike">
                <a:solidFill>
                  <a:srgbClr val="cc3300"/>
                </a:solidFill>
                <a:latin typeface="Book Antiqua"/>
              </a:rPr>
              <a:t> makroszocioló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Egyéni cselekvések vagy a társadalmi struktúra az elsődleg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85912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Szociálbehaviorizmus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tágabban értelmezi a behaviorista pszichológiai irányzatot – szerinte nem csak a cselekvés, hanem a mögöttes szándék is megérth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8920" y="2878200"/>
            <a:ext cx="2157120" cy="3068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G.H. Me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18280" y="2173320"/>
            <a:ext cx="263520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863-193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lozófiát és pszichológiát tanul, Európába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gyetemi tan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ő művei halála után jelennek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2330280"/>
            <a:ext cx="4645080" cy="8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ozófus és szociálpszich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272440" y="0"/>
            <a:ext cx="851040" cy="1211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560" y="3995640"/>
            <a:ext cx="5543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Viselkedés, mint szimbólu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 másik ember annak feltételezésével reagál, hogy a cselekvő valamit ki akart fejezni tettével („megérti a cselekvés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10240" y="5235480"/>
            <a:ext cx="739800" cy="72864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26360" y="5237280"/>
            <a:ext cx="782640" cy="725400"/>
          </a:xfrm>
          <a:prstGeom prst="rect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" y="516420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Szimbolikus interakció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z egyén saját cselekvésének alakításakor a másik ember várható reakcióját is számításba ves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56680" y="5235480"/>
            <a:ext cx="739800" cy="728640"/>
          </a:xfrm>
          <a:prstGeom prst="ellipse">
            <a:avLst/>
          </a:prstGeom>
          <a:solidFill>
            <a:srgbClr val="339966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5237280"/>
            <a:ext cx="782640" cy="725400"/>
          </a:xfrm>
          <a:prstGeom prst="rect">
            <a:avLst/>
          </a:prstGeom>
          <a:solidFill>
            <a:srgbClr val="339966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95960" y="559908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94600" y="559908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0"/>
            <a:endCxn id="151" idx="0"/>
          </p:cNvCxnSpPr>
          <p:nvPr/>
        </p:nvCxnSpPr>
        <p:spPr>
          <a:xfrm flipH="1" flipV="1" rot="5400000">
            <a:off x="7771320" y="4281840"/>
            <a:ext cx="2520" cy="1908720"/>
          </a:xfrm>
          <a:prstGeom prst="curvedConnector5">
            <a:avLst>
              <a:gd name="adj1" fmla="val 28300000"/>
              <a:gd name="adj2" fmla="val 49990"/>
              <a:gd name="adj3" fmla="val 28300000"/>
            </a:avLst>
          </a:prstGeom>
          <a:ln w="93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156" name=""/>
          <p:cNvCxnSpPr>
            <a:stCxn id="151" idx="4"/>
            <a:endCxn id="148" idx="4"/>
          </p:cNvCxnSpPr>
          <p:nvPr/>
        </p:nvCxnSpPr>
        <p:spPr>
          <a:xfrm rot="5400000">
            <a:off x="7351560" y="4591440"/>
            <a:ext cx="2520" cy="2747160"/>
          </a:xfrm>
          <a:prstGeom prst="curvedConnector5">
            <a:avLst>
              <a:gd name="adj1" fmla="val 26200000"/>
              <a:gd name="adj2" fmla="val 50000"/>
              <a:gd name="adj3" fmla="val 26200000"/>
            </a:avLst>
          </a:prstGeom>
          <a:ln w="936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15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560" y="399564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Viselkedés, mint szimbólum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tágabban értelmezi a behaviorista pszichológiai irányzatot – szerinte nem csak a cselekvés, hanem a mögöttes szándék is megérth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5912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Szociálbehaviorizmus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tágabban értelmezi a behaviorista pszichológiai irányzatot – szerinte nem csak a cselekvés, hanem a mögöttes szándék is megérth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G.H. Me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18280" y="2173320"/>
            <a:ext cx="263520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864-19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ogot, gazdaságtant és filozófiát ta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gántanár, kut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űvei halála után jelennek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520" y="2330280"/>
            <a:ext cx="4645080" cy="8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ozófus és szociálpszich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4520" y="4471920"/>
            <a:ext cx="34894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pszichikum, az én és a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51040" cy="1211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80" y="516420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Szimbolikus interakció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z egyén saját cselekvésének alakításakor a másik ember várható reakcióját is számításba ves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rcRect l="19354" t="21627" r="25297" b="30690"/>
          <a:stretch/>
        </p:blipFill>
        <p:spPr>
          <a:xfrm>
            <a:off x="358920" y="2878200"/>
            <a:ext cx="2585880" cy="329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240" y="28591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Rendszer és életvilág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a gazdaság és a politika célracionálisan, míg a kultúra és a személyiség erkölcsi elveket követve működ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J. Haberm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18280" y="2173320"/>
            <a:ext cx="263520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929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lozóf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Frankfurti Iskola tagjaként ind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émetország egyik legelismertebb tudó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520" y="2330280"/>
            <a:ext cx="3540240" cy="8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ozófus és 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4520" y="4471920"/>
            <a:ext cx="34894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kommunikatív cselekvés logik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társadalmi nyilvánosság szerkezetvált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32201" t="25942" r="39165" b="48486"/>
          <a:stretch/>
        </p:blipFill>
        <p:spPr>
          <a:xfrm>
            <a:off x="8231040" y="0"/>
            <a:ext cx="912960" cy="120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3240" y="372600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Társadalmi nyilvánosság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ztosíthatja azt, hogy az életvilág kontrollt gyakorolhasson a gazdaság és a politika fel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3240" y="464040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Kommunikatív cselekvés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ztosítja, hogy a társadalom szereplői egyetértésre jutva közösen, együttműködve valósíthassák meg céljai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240" y="5538960"/>
            <a:ext cx="5543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A kapitalizmus rendszerkonfliktusa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bból ered, hogy a XX. század második felében a gazdaság uralja a politikát és az életvilágo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58920" y="2878200"/>
            <a:ext cx="2382840" cy="319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85912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Struktúra és cselekvés kapcsolat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 társadalmi struktúra egyszerre következménye és kerete az egyéni cselekvés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A. Gidde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9400" y="2173320"/>
            <a:ext cx="312408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1938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Szociológiát ta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LSE oktatója, igazgat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Befolyásos brit társadalomtudós, ‘New Labour’ egyik inspirál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520" y="2330280"/>
            <a:ext cx="237492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4520" y="4471920"/>
            <a:ext cx="348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modernizáció következmény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harmadik ú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8603" t="0" r="12590" b="19732"/>
          <a:stretch/>
        </p:blipFill>
        <p:spPr>
          <a:xfrm>
            <a:off x="8250120" y="0"/>
            <a:ext cx="893880" cy="1220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6480" y="388476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Modernizáció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 térről és az időről vallott felfogás megváltozása a XVIII. századtól kezd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2600" y="4576680"/>
            <a:ext cx="5543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Modernizáció következménye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a társadalomban bonyolult hatalmi mechanizmusok létrejötte, így elsősorban a szakértő rendszerek, valamint az óra-idő uralkodóvá válása. Ezek következménye a társadalmak közötti különbségek csökkenése, a globaliz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0"/>
                            </p:stCondLst>
                            <p:childTnLst>
                              <p:par>
                                <p:cTn id="7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rcRect l="16611" t="0" r="19195" b="0"/>
          <a:stretch/>
        </p:blipFill>
        <p:spPr>
          <a:xfrm>
            <a:off x="358920" y="2878200"/>
            <a:ext cx="2638440" cy="3381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28591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Kockázattársadalom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környezeti és társadalmi kockázatokat tekinti a mai társadalom egyik meghatározó jelenségé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Ulrich Be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2173320"/>
            <a:ext cx="26352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194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Egyetemi tan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Munkaszociológia, modern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2330280"/>
            <a:ext cx="199548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4520" y="4471920"/>
            <a:ext cx="348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ockázat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rcRect l="29014" t="4850" r="35105" b="34127"/>
          <a:stretch/>
        </p:blipFill>
        <p:spPr>
          <a:xfrm>
            <a:off x="8264520" y="-15840"/>
            <a:ext cx="879480" cy="1230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360" y="3916440"/>
            <a:ext cx="5762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Modenizáció két szakasza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határozható meg szerinte, első és második modern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" y="466236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Individualizáció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a kockázattársadalom (‘második modernitás’) sajátossága az élethelyzetek egyedivé v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4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8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indefinit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73320" y="793800"/>
            <a:ext cx="63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Alapfogalma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4960" y="1620720"/>
            <a:ext cx="876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Book Antiqua"/>
              </a:rPr>
              <a:t>Norm</a:t>
            </a: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értékeken alapuló viselkedési szabályok, melyek meghatározzák az egyén lehetőségeit és feladata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8240" y="3355920"/>
            <a:ext cx="881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Szerep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egy adott normakészlet, mely meghatározza az egyénnek a helyzetéből adódó jogait és kötelessége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489040"/>
            <a:ext cx="7786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Book Antiqua"/>
              </a:rPr>
              <a:t>St</a:t>
            </a: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átusz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z egyénnek a társadalmi struktúrában elfoglalt helyét jel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8320" y="4224240"/>
            <a:ext cx="7990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ársadalmi integráció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om tagjai közötti kapcsolatok és szolidarítás mérté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091120"/>
            <a:ext cx="94820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ársadalmi intézmény </a:t>
            </a:r>
            <a:r>
              <a:rPr b="0" lang="hu-HU" sz="2600" spc="-1" strike="noStrike">
                <a:solidFill>
                  <a:srgbClr val="000000"/>
                </a:solidFill>
                <a:latin typeface="Book Antiqua"/>
              </a:rPr>
              <a:t>A társadalom többségének tagjai által végzett tevékenységek alapvető módja, mintája (normák és értékek egymással összefüggő rendsz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09640"/>
            <a:ext cx="91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200" spc="-1" strike="noStrike">
                <a:solidFill>
                  <a:srgbClr val="e6420f"/>
                </a:solidFill>
                <a:latin typeface="Book Antiqua"/>
              </a:rPr>
              <a:t>Rend vagy változás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76400"/>
            <a:ext cx="250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cc9900"/>
                </a:solidFill>
                <a:latin typeface="Book Antiqua"/>
              </a:rPr>
              <a:t>Mak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2840" y="2997360"/>
            <a:ext cx="27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Társadal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303840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Struktú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67680" y="304956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48240"/>
            <a:ext cx="250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cc9900"/>
                </a:solidFill>
                <a:latin typeface="Book Antiqua"/>
              </a:rPr>
              <a:t>Mik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2840" y="454644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Egy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1720" y="458784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Cselekv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08840" y="4599000"/>
            <a:ext cx="20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9900"/>
                </a:solidFill>
                <a:latin typeface="Book Antiqua"/>
              </a:rPr>
              <a:t>Változ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6680" y="3724200"/>
            <a:ext cx="0" cy="851040"/>
          </a:xfrm>
          <a:prstGeom prst="line">
            <a:avLst/>
          </a:prstGeom>
          <a:ln w="25560">
            <a:solidFill>
              <a:srgbClr val="9f731b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97560" y="3724200"/>
            <a:ext cx="0" cy="851040"/>
          </a:xfrm>
          <a:prstGeom prst="line">
            <a:avLst/>
          </a:prstGeom>
          <a:ln w="25560">
            <a:solidFill>
              <a:srgbClr val="9f731b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3724200"/>
            <a:ext cx="0" cy="851040"/>
          </a:xfrm>
          <a:prstGeom prst="line">
            <a:avLst/>
          </a:prstGeom>
          <a:ln w="25560">
            <a:solidFill>
              <a:srgbClr val="9f731b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3440" y="1353960"/>
            <a:ext cx="60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Console"/>
              </a:rPr>
              <a:t>A szociológia ered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9240" y="4154400"/>
            <a:ext cx="32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cc"/>
                </a:solidFill>
                <a:latin typeface="Book Antiqua"/>
              </a:rPr>
              <a:t>Herbert Sp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94120" y="5102280"/>
            <a:ext cx="4349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Book Antiqua"/>
              </a:rPr>
              <a:t>1820-1903 – angol filozófus, szocioló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Book Antiqua"/>
              </a:rPr>
              <a:t>A Darwin-i biológiai evolúció alkalmazása a társadalmi folyamatokra, egyetemes fejlődés feltétel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2" idx="1"/>
          </p:cNvCxnSpPr>
          <p:nvPr/>
        </p:nvCxnSpPr>
        <p:spPr>
          <a:xfrm flipV="1" rot="10800000">
            <a:off x="5019120" y="4444560"/>
            <a:ext cx="24012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0" y="3970440"/>
            <a:ext cx="33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cc"/>
                </a:solidFill>
                <a:latin typeface="Book Antiqua"/>
              </a:rPr>
              <a:t>Auguste Co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7560" y="5038560"/>
            <a:ext cx="36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798-1857 – francia szocioló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gyetemes fejlődés feltételezése: „Három Stádium” törvén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5" idx="2"/>
            <a:endCxn id="76" idx="0"/>
          </p:cNvCxnSpPr>
          <p:nvPr/>
        </p:nvCxnSpPr>
        <p:spPr>
          <a:xfrm flipH="1" rot="16200000">
            <a:off x="1795320" y="4450320"/>
            <a:ext cx="489600" cy="68796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979880" y="2075040"/>
            <a:ext cx="41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Book Antiqua"/>
              </a:rPr>
              <a:t>Utópikus szocialist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3080" y="2849400"/>
            <a:ext cx="448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Book Antiqua"/>
              </a:rPr>
              <a:t>A társadalom megreformálása, az igazságtalanságok megszüntetése a kis közösségek szintjén (falu, gyá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Book Antiqua"/>
              </a:rPr>
              <a:t>Owen, Fou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8" idx="2"/>
            <a:endCxn id="79" idx="0"/>
          </p:cNvCxnSpPr>
          <p:nvPr/>
        </p:nvCxnSpPr>
        <p:spPr>
          <a:xfrm rot="5400000">
            <a:off x="6660360" y="2447640"/>
            <a:ext cx="195840" cy="608760"/>
          </a:xfrm>
          <a:prstGeom prst="bentConnector3">
            <a:avLst>
              <a:gd name="adj1" fmla="val 495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279360" y="1663560"/>
            <a:ext cx="24796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Book Antiqua"/>
              </a:rPr>
              <a:t>Társadal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Book Antiqua"/>
              </a:rPr>
              <a:t>változ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4200" y="2629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eformáció, felvilágos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4200" y="30369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pari forr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34844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ancia forradalom, restaur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3" idx="1"/>
            <a:endCxn id="81" idx="1"/>
          </p:cNvCxnSpPr>
          <p:nvPr/>
        </p:nvCxnSpPr>
        <p:spPr>
          <a:xfrm rot="10800000">
            <a:off x="278640" y="2075760"/>
            <a:ext cx="205560" cy="1145160"/>
          </a:xfrm>
          <a:prstGeom prst="bentConnector3">
            <a:avLst>
              <a:gd name="adj1" fmla="val 10070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920" y="2878200"/>
            <a:ext cx="2666880" cy="33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993600"/>
            <a:ext cx="60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8000"/>
                </a:solidFill>
                <a:latin typeface="Book Antiqua"/>
              </a:rPr>
              <a:t>Karl Mar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9400" y="1336680"/>
            <a:ext cx="2784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818-18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ogot, filozófiát, közgazdaságtant ta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litikailag aktív (munkásmozgal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litikai tevékenységéért többször szembekerül a hatóság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389320"/>
            <a:ext cx="4869000" cy="8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ozófus – Szociológus - Poli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4520" y="4232160"/>
            <a:ext cx="348948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tő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munkásosztály helyzete Angliá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Kommunista Kiáltv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1140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Konfliktuselméle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szerint a társadalom működését az eltérő helyzetű társadalmi csoportok közötti konfliktusok határozzák m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8304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Osztályelméle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szerint a társadalom tagolódását a gazdasági viszonyok határozzák meg, Marx a termelőeszközökhöz fűződő viszonyt látta döntőnek (kiszolgáltatottság mérté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23728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Elidegenedés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kapitalista termelési mód, a városokba költözése hatására elszakadnak a korábbi társadalmi kapcsolatok, a munkás elveszti kapcsolatát az általa végzett munká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" y="2968560"/>
            <a:ext cx="488664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175600" y="0"/>
            <a:ext cx="9684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95416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Társadalmi integráció, szolidaritá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A társadalom normális működéséhez a társ. tagjai közötti együttműködésre, az egymás iránti szolidaritásra van szüksé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920" y="2878200"/>
            <a:ext cx="2746080" cy="342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9936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808000"/>
                </a:solidFill>
                <a:latin typeface="Book Antiqua"/>
              </a:rPr>
              <a:t>Emile Durkhe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720" y="2286000"/>
            <a:ext cx="3384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1858-19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École Normal Sup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Filozófiát tanul, doktor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Tanulmnyút Németországban: demográfia és szocioló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Egyetemi k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00" y="2360520"/>
            <a:ext cx="385740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ozófus és 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4520" y="4667400"/>
            <a:ext cx="34894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z öngyilkos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munkamegosztás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szociológia módsz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8320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Munkamegosztás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szolidaritás eredete a munkamegosztás: az egymásrautaltság mindennapi megtapasztal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132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Anómia - öngyilkosság 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A szolidaritás meggyengülése, a társadalom dezintegrációja „anómikus” állapot alakul ki, ennek egyik jele az öngyilkosságok számának növeked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1200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8920" y="2878200"/>
            <a:ext cx="2712960" cy="3417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591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Vallás és gazdasá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Felismerte, hogy a vallás (és tágabban a kultúra) meghatározó a gazdasági cselekvésbe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3300"/>
                </a:solidFill>
                <a:latin typeface="Book Antiqua"/>
              </a:rPr>
              <a:t>Max We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18280" y="2173320"/>
            <a:ext cx="263520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864-19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ogot, gazdaságtant és filozófiát ta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gántanár, kut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űvei halála után jelennek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520" y="2330280"/>
            <a:ext cx="3667320" cy="8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örténész és 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4520" y="4471920"/>
            <a:ext cx="348948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protestáns etika és a kapitalizmus szel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azdaságtörté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92520"/>
            <a:ext cx="5543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Book Antiqua"/>
              </a:rPr>
              <a:t>Társadalmi rétegződés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gazdaság mellett az életmódot is rétegképzőnek tartja – ezek együttesen hatalmi viszonyokat testesítenek m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7668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Cselekvéselmélet 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Társadalmi cselekvés: tradicionális, érzelmi-indulati, értékracionális, célracioná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2780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Hatalom, bürokrácia  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Hatalom típusai (tradicionális, karizmatikus, racionális-legális) és a bürokrácia szerepe a hatalogyakorlásb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18440" y="0"/>
            <a:ext cx="925560" cy="118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8920" y="2878200"/>
            <a:ext cx="2388960" cy="356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Talcott Pars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4240" y="2173320"/>
            <a:ext cx="29192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1902-19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azdasági, antropológiai és szociológiai tanulmány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elentős európai hatás, klasszikusok integrál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9520" y="2330280"/>
            <a:ext cx="199728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4520" y="4471920"/>
            <a:ext cx="348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társadalmi cselekvés szerk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 társadalmi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8327880" y="-15840"/>
            <a:ext cx="816120" cy="121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360" y="2932200"/>
            <a:ext cx="59230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Rendszerelmélete (AGIL séma)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a társadalom működésében négy funkciót határoz me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Adaptáció: alkalmazkodás aa környezeti feltételekhez (gazdasá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Célelérés: a cselekvési célok meghatározása, mely a gazdaság számára az irányítást biztosítja (poli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Integráció: az emberek közösségének összefogása, a normatív szabályozás révén (társdal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Mintafenntartás: az értékek, normák megőrzése és továbbörökítése (család/kultú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360" y="2932200"/>
            <a:ext cx="59230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33ff"/>
                </a:solidFill>
                <a:latin typeface="Book Antiqua"/>
              </a:rPr>
              <a:t>Csereelmélet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a cselekvő korlátlan racionális döntését feltétele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Az intézmények, normák, szerepek létrejöttének vizsgálatát tartja a szociológia fő feladatá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Kiinduló pontja az elemi egyéni cselekvés, melyet csereaktusokként fog 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Ennek során az egyén elemi haszon-maximalizálását feltételezi (a behaviorista pszichológia megközelítését alkalmaz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93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600" spc="-1" strike="noStrike">
                <a:solidFill>
                  <a:srgbClr val="cc3300"/>
                </a:solidFill>
                <a:latin typeface="Book Antiqua"/>
              </a:rPr>
              <a:t>G. C. Homa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89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urizmus szociológiája H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34240" y="2173320"/>
            <a:ext cx="291924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00"/>
                </a:solidFill>
                <a:latin typeface="Book Antiqua"/>
              </a:rPr>
              <a:t>Élete</a:t>
            </a: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 1910-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Parsons tanítványa, később elméleti kérdésekben szembefordul v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9520" y="2330280"/>
            <a:ext cx="1997280" cy="459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zocioló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4520" y="4471920"/>
            <a:ext cx="348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84f22"/>
                </a:solidFill>
                <a:latin typeface="Book Antiqua"/>
              </a:rPr>
              <a:t>Fő mű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The Huma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 Antiqua"/>
              </a:rPr>
              <a:t>Social Behavior: Its Elementary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9000" y="674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afa50"/>
                </a:solidFill>
                <a:latin typeface="Lucida Sans Unicode"/>
              </a:rPr>
              <a:t>Társadalom, kultúra, 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02680" y="-9360"/>
            <a:ext cx="841320" cy="121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04840" y="2892600"/>
            <a:ext cx="24462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indefinite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indefinite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28:25Z</dcterms:created>
  <dc:creator>Mayer Péter</dc:creator>
  <dc:description/>
  <dc:language>en-US</dc:language>
  <cp:lastModifiedBy>Mayer Péter</cp:lastModifiedBy>
  <dcterms:modified xsi:type="dcterms:W3CDTF">2007-03-30T05:59:37Z</dcterms:modified>
  <cp:revision>136</cp:revision>
  <dc:subject/>
  <dc:title>1. dia</dc:title>
</cp:coreProperties>
</file>